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617-FC4B-46CD-9100-AEB20F12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059-BE92-4F2A-892C-DCE1E730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1E5-793E-48A9-82A7-92C10D93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805-95B2-4397-8D39-77E519E5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837-8CA6-44FD-AFB5-F75D3948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5C2-BD65-4821-B95F-1F246010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62C6-B6A7-4206-A66A-7BBFDAC5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2A5-0047-4E2A-86F1-E8C9EE94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84E-FEB2-43EB-ABE4-9B6B0BF5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E4D-D306-4580-845A-526D1EDC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780-B349-429E-A558-CAE8C7E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1AF-A06B-4888-94B2-101B390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01B5-BC60-4226-9E62-7A494FC66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1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3:10Z</dcterms:created>
  <dc:creator>Anon Anon</dc:creator>
  <dc:description/>
  <dc:language>en-US</dc:language>
  <cp:lastModifiedBy>Anon Anon</cp:lastModifiedBy>
  <dcterms:modified xsi:type="dcterms:W3CDTF">2005-08-09T05:25:22Z</dcterms:modified>
  <cp:revision>11</cp:revision>
  <dc:subject/>
  <dc:title>PowerPoint Presentation</dc:title>
</cp:coreProperties>
</file>